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00DC-13FD-4E40-A665-F2A3755B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66FD-5090-40BB-8D14-4E6BF498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7E9-C5BC-46EF-A716-3A38FD98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A263-B4B9-4EAF-AEDA-336CC6F7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819A-0800-40E3-8C3F-366FCC73C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00D-9576-4FA7-950B-F44297F1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ken without permission from: http://www.fsteiger.com/theory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5D2-D258-46AE-88E2-B6C50DF5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6120-CB62-4CA5-A5D9-5D939F7ED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1C9-675F-41BA-8CE0-86C6AA89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931-4E36-4A50-9179-F46AD1C1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BD5-83A4-4955-BFA9-C210A7F9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8676-A1B3-463D-A2F8-19BB37CC7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CD6-F377-47AD-ABED-07596F8A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9C9-D188-42FF-A592-A16D3441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BCC-E2A8-4322-99EF-3E2E2D5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B77-3198-47C1-B406-382FCDE4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590-197C-431C-9659-1A46D5B5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2D7-809F-4FA0-811B-42FB690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8B2-A9AE-4718-AD76-E95760D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811-449C-4C8C-B639-7000CF23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A5-CB38-4EEB-92E2-00C54884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27D-BCAC-47B1-925C-8106022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B60-FB0A-4DDB-98AA-A9E0985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0A9-891E-4EBE-AEEA-C8848A3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07B-D93C-49C7-A137-AE527B7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5B9-C056-4BFF-A51E-1AF5050E6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lstar.com/theories.htm" TargetMode="External"/><Relationship Id="rId2" Type="http://schemas.openxmlformats.org/officeDocument/2006/relationships/hyperlink" Target="https://www.youtube.com/watch?v=85diEXbJBIk&amp;index=1&amp;list=PL5270149AB732F0FB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cientific the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ste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heory of Rel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omic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Theory of 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se theories are well documented and proven beyond reasonable dou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continue to look at the component hypotheses of each theory, and they can be adjusted, but they are rarely, if ever, entirely repl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and most of the text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lstar.com/theori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short PBS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85diEXbJBIk&amp;index=1&amp;list=PL5270149AB732F0F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is just a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artoon2"/>
          <p:cNvPicPr/>
          <p:nvPr/>
        </p:nvPicPr>
        <p:blipFill>
          <a:blip r:embed="rId1"/>
          <a:stretch/>
        </p:blipFill>
        <p:spPr>
          <a:xfrm>
            <a:off x="1646280" y="1828800"/>
            <a:ext cx="592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evolution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a theor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 that it’s just a guess or unproven, maybe not really believ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ientific terms,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that has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gener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pted as being 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? Hypothesis? Theo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 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ientific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ypothe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sible explanation of a single event based upon what is observed, but which has not been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ypotheses can be supported or refuted by experimentation or continued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cientific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of fact that describes an action or set of actions, sometimes expressed as a mathemat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generally accepted to be true and univer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cientific law ever did not apply, then all science based upon that law would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ientific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's laws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s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s of conservation of mass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…What is a scientific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ike a scientific law than a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lanation of a set of related observations or events based up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n hypothe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ified multiple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different groups of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cientist cannot create a theory; he/she can only create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Theory vs.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gener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epted to be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scientific community as a whole, and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ed to make predi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es are much more complex and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describe a single action, whereas a theory explains an entire group of relate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3:21:02Z</dcterms:created>
  <dc:creator>rubina khan</dc:creator>
  <dc:description/>
  <dc:language>en-US</dc:language>
  <cp:lastModifiedBy>rubina khan</cp:lastModifiedBy>
  <dcterms:modified xsi:type="dcterms:W3CDTF">2016-10-28T14:42:40Z</dcterms:modified>
  <cp:revision>63</cp:revision>
  <dc:subject/>
  <dc:title>What is a scientific theory?</dc:title>
</cp:coreProperties>
</file>